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AB3AD7-CACD-433C-B8D4-F9EA5035F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EFFD19-E2D4-4F8E-A94E-517B56C23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02FE01-864A-4CFA-8723-B1167F85B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3F62D-C8FC-4E14-863D-0B393CE36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1DC20-420D-4D57-B2C7-F07235CCC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F0123-D9B5-496B-ABAC-1AB0106E4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38456-BCE8-441E-96D7-8DDA73D45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21D0F-6994-42EB-A0B5-D23665A42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6EF2A-DDDC-4F4A-9D0E-C32AB7E4D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7BDAA-07C8-4C56-AA93-2E5D987BE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286B9-DAF9-4936-853F-EC93EF09F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58340E-3489-46DC-9AA0-36566821A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A336D-722D-403A-9FD7-856112E10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DED70-0062-4FB6-81F7-80AEE7B39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396C9-2C5A-413A-97CD-264A8F039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E4B79-0ACA-49A6-97FE-D930BEC3A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BD6B0-823F-4CB1-B931-380A6E19C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E8B131-D286-45C1-9F8F-0205FB67D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27D0D9-23DD-44BC-BD55-04A9C9DB8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48230-6BE0-493B-82C5-E2D86C99D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A5F3FA-6EAF-4F10-B14E-B122ED81C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2F8502-4434-48BD-9904-4BBF1CF89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24BC09-9073-48F9-97F5-F36057881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D10B22-63A9-412A-86FE-45B32F813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76823-9F20-4F22-AB4F-AAAE69C8B60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99449-5044-4DD6-A0C7-577270A5901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ompletion Questions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esson 6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crip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"/>
          <p:cNvSpPr/>
          <p:nvPr/>
        </p:nvSpPr>
        <p:spPr>
          <a:xfrm>
            <a:off x="200880" y="1878120"/>
            <a:ext cx="65678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Sub Question1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Dim Answ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Answer = InputBox("What is the capital of Pennsylvania?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If Answer = "Harrisburg" Or _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Answer = "harrisburg" th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RightAnsw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El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WrongAnsw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End I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End S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-172080" y="5002200"/>
            <a:ext cx="940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Garamond"/>
              </a:rPr>
              <a:t>If you are going to use more than one question, you must use different names for th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Garamond"/>
              </a:rPr>
              <a:t>subroutines and variables name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Garamond"/>
              </a:rPr>
              <a:t>Ex. Sub Question2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Garamond"/>
              </a:rPr>
              <a:t>      </a:t>
            </a:r>
            <a:r>
              <a:rPr b="0" lang="en-US" sz="1800" spc="-1" strike="noStrike">
                <a:solidFill>
                  <a:srgbClr val="ffcc00"/>
                </a:solidFill>
                <a:latin typeface="Garamond"/>
              </a:rPr>
              <a:t>Dim Answer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9T18:43:03Z</dcterms:created>
  <dc:creator>jnatale</dc:creator>
  <dc:description/>
  <dc:language>en-US</dc:language>
  <cp:lastModifiedBy>jnatale</cp:lastModifiedBy>
  <dcterms:modified xsi:type="dcterms:W3CDTF">2009-02-19T18:48:02Z</dcterms:modified>
  <cp:revision>1</cp:revision>
  <dc:subject/>
  <dc:title>Completion Questions</dc:title>
</cp:coreProperties>
</file>